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7D6-45C5-4909-9EAE-3C88AB67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807-1E77-4852-814D-ABF3B65E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C2B-5709-47DA-9489-D4FCB885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3D6-35EB-45A2-96AE-EFA4C2EE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81C-306E-4373-8028-B39764FE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4C69-7CC2-4A9F-B53B-8B6FA62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9048-68ED-483F-847A-E96D9D0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C6AB-DA4E-4E58-9B69-9E8CA17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CF88-8551-46A7-9168-1A11A3A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0BB4-1FD9-4024-97D8-4E1DF2E4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CD60-83E4-48B9-B820-40AE31D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AFA-B392-41A3-9CE3-A2C7892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632D-834C-49F8-9E81-97D4385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B77-B7A7-4209-8B2B-A059376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2683-0CC4-4945-972D-72B08F58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55D-7594-4314-8F44-BFF30B3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3F69-0C09-4704-8236-F089A0D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829-517D-42C6-927E-895ADF87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F93-F6BB-4A53-8D6B-B949212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2D7-4487-451A-B6A0-D3FBA6CD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96D-ED4E-4D0D-BE78-6EFA73E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8C6-A078-4794-BD60-BCD53A80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887-158C-40F8-B4CF-1664DE99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4BB-8232-4D40-9F81-480DCF1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D0A-A64F-46A6-9BED-4A9078A4B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5D29-3EC0-4703-B010-295132DDB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Persuasive Appeals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0481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Classic Modes of Persua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Log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E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Et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00600" y="2581200"/>
            <a:ext cx="4343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odern Appe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ten manipulativ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Listed in increasingly manipulative order; however, any appeal can be perverted into manipulation of audienc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67080" y="3770280"/>
            <a:ext cx="4077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like Logic, connects argument through a logical chain         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caused by these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contribution can be de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can be de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ru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ppeal to helping others even at our own expense (i.e. humanitarian a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3024000">
            <a:off x="6640920" y="978840"/>
            <a:ext cx="274320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 s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logical argument based on as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war assumption: communism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lse prem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ot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t’s good for                      the country, 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imilar to common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so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tempts universality, but it’s an analogy, s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 skep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has this happened to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ys so - to                                - Mom says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oer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29200" y="3105000"/>
            <a:ext cx="34671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f-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lightened self-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good for others is good for u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ll work toge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lfish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b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hip hop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895840" cy="2327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rot="21042600">
            <a:off x="0" y="1980720"/>
            <a:ext cx="18288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nd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ercion: appeals                              to fear or parano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ju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ee-jerk reaction to buzz words and stere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stition and ignorant f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5120" y="380880"/>
            <a:ext cx="378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uses of Appe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viously false facts lead to false conclusions (WM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sinterpretation of fa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them seem different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what your              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 accomp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ical Falla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70480" y="3276720"/>
            <a:ext cx="2700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1:19:58Z</dcterms:created>
  <dc:creator>\]</dc:creator>
  <dc:description/>
  <dc:language>en-US</dc:language>
  <cp:lastModifiedBy>\]</cp:lastModifiedBy>
  <dcterms:modified xsi:type="dcterms:W3CDTF">2008-02-21T23:12:15Z</dcterms:modified>
  <cp:revision>7</cp:revision>
  <dc:subject/>
  <dc:title>Persuasive Appeals</dc:title>
</cp:coreProperties>
</file>